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ACB-8203-459F-ACCD-5067D5EA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52B-9F4A-4918-BC8E-6C001A80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B4F-EE6A-4E01-8E2E-AA690F8C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862-1F0E-4F64-BA5E-7EDB163B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075-BBE4-46AA-8A18-F62650A3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785-7313-41BB-8C09-E9F210AF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B43-2E40-4014-A38B-72E70DA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F84-2DED-4880-97BB-0622F90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728-9F09-4C22-A6B0-9385D76F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517-8F3A-4BFC-A5D3-D95E321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162-2E51-4EBB-9364-8878B58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DBD-8513-44CF-B3E7-4229240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649E-9B98-4653-8AF9-887137AC0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Here Lies ebenezer scro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For most of his lif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He was a mis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He had no wif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But he still was an early ri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255280" y="2821680"/>
            <a:ext cx="3967200" cy="304812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 LIES EBENEZER SCRO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 a very long 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was as sour as a l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after the visi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no longer needed the spir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WA</cp:lastModifiedBy>
  <dcterms:modified xsi:type="dcterms:W3CDTF">2009-12-08T20:20:02Z</dcterms:modified>
  <cp:revision>11</cp:revision>
  <dc:subject/>
  <dc:title>Slide 1</dc:title>
</cp:coreProperties>
</file>